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0779-DD8A-4C54-BCEF-021B824FE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E902-35D6-4B80-968D-7A55B580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9936-B539-48F8-8DD0-2121926B9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F93E-21CB-4B4E-B1F3-5606BD4F6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0555-0CF6-4A89-888A-D2BCF053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E2FB-E787-4843-9258-B4011D5B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F81A-F30E-40EC-844B-8A84F99E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BDB3-B3E0-4D15-9872-FFD32F71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F798-5ED8-4250-9E2C-ADA2126E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8825-9B68-4C8C-8F39-D28068AE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D75C-5BAB-4338-B5F2-54D2F0FD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D051-080D-45D7-BF5D-9571D503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FF592-D5FD-4099-A7FD-BFC9FB5400E0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winter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noise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headaches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sleep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bed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water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see%20night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dark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lots%20love.mp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dear%20john.mp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dry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fleas%20lice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fight%20brave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rats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n%20happy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pain%20here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how%20many%20room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too%20many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clean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cold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afraid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scared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scratch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stupid%20battles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ist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lick on the pictures from left to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ick if there is a m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ross if there is no m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08160" y="1768320"/>
            <a:ext cx="766296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08160" y="1768320"/>
            <a:ext cx="7662960" cy="4989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08:30:25Z</dcterms:created>
  <dc:creator>dominique  camier</dc:creator>
  <dc:description/>
  <dc:language>en-US</dc:language>
  <cp:lastModifiedBy>dominique  camier</cp:lastModifiedBy>
  <dcterms:modified xsi:type="dcterms:W3CDTF">2014-03-05T09:39:51Z</dcterms:modified>
  <cp:revision>27</cp:revision>
  <dc:subject/>
  <dc:title/>
</cp:coreProperties>
</file>